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DB1-3723-4B9F-BD9D-67820C77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76B-BEF6-4615-ACD7-38B73E75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C1D-B335-46D4-B72F-B7243AE1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B97-4F34-4B8A-926C-4D4FFBCB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D0F-719C-4435-9C4F-E4BFE634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CD7-7EDB-46E7-97B8-A0CE48A0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2A8-22BD-4EDF-861C-6022109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262-595B-432A-94F8-7C752AAA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95F-EA30-4284-852B-D9D95BE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2C9-8097-4EAB-A03F-D2D197B3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FD6-6047-4181-91D9-7AC67664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E8E-B5F0-4438-8F66-F16F6F1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1527-88D0-45EC-8F03-9771FB9DD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5050"/>
                </a:solidFill>
                <a:latin typeface="Times New Roman"/>
              </a:rPr>
              <a:t>Тема: Преобразования графиков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31640" y="2058840"/>
            <a:ext cx="8893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8360" y="4795920"/>
            <a:ext cx="8893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550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551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552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59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64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67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68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70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71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78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2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83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84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89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95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97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98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605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609" name="Object 62"/>
          <p:cNvGraphicFramePr/>
          <p:nvPr/>
        </p:nvGraphicFramePr>
        <p:xfrm>
          <a:off x="404640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7702E-006 L -0.08663 -1.17702E-006 E">
                                      <p:cBhvr>
                                        <p:cTn id="9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3957480" cy="2428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5429160" y="3571920"/>
            <a:ext cx="2928960" cy="2662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3"/>
          <a:stretch/>
        </p:blipFill>
        <p:spPr>
          <a:xfrm>
            <a:off x="5286240" y="571680"/>
            <a:ext cx="3483000" cy="257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4"/>
          <a:stretch/>
        </p:blipFill>
        <p:spPr>
          <a:xfrm>
            <a:off x="642960" y="3220920"/>
            <a:ext cx="34527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5357880" y="357120"/>
            <a:ext cx="3181320" cy="2571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4572000" cy="1836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"/>
          <p:cNvPicPr/>
          <p:nvPr/>
        </p:nvPicPr>
        <p:blipFill>
          <a:blip r:embed="rId3"/>
          <a:stretch/>
        </p:blipFill>
        <p:spPr>
          <a:xfrm>
            <a:off x="5286240" y="3286080"/>
            <a:ext cx="3613320" cy="3027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4"/>
          <a:stretch/>
        </p:blipFill>
        <p:spPr>
          <a:xfrm>
            <a:off x="357120" y="3643200"/>
            <a:ext cx="45007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5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6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7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4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9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62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63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65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66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73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78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79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84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0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92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93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00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04" name="Object 62"/>
          <p:cNvGraphicFramePr/>
          <p:nvPr/>
        </p:nvGraphicFramePr>
        <p:xfrm>
          <a:off x="4029120" y="1951200"/>
          <a:ext cx="141912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51200"/>
                    <a:ext cx="141912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63"/>
          <p:cNvSpPr/>
          <p:nvPr/>
        </p:nvSpPr>
        <p:spPr>
          <a:xfrm>
            <a:off x="2833560" y="14558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0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0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1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1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2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2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2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2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2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3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14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14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14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15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15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6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67" name="Object 62"/>
          <p:cNvGraphicFramePr/>
          <p:nvPr/>
        </p:nvGraphicFramePr>
        <p:xfrm>
          <a:off x="4368960" y="981000"/>
          <a:ext cx="75852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981000"/>
                    <a:ext cx="7585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3"/>
          <p:cNvSpPr/>
          <p:nvPr/>
        </p:nvSpPr>
        <p:spPr>
          <a:xfrm>
            <a:off x="1835280" y="69228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k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7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7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7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8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8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8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8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9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9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9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0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0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1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1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1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2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30" name="Object 62"/>
          <p:cNvGraphicFramePr/>
          <p:nvPr/>
        </p:nvGraphicFramePr>
        <p:xfrm>
          <a:off x="3000240" y="2433600"/>
          <a:ext cx="34434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2433600"/>
                    <a:ext cx="34434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63"/>
          <p:cNvSpPr/>
          <p:nvPr/>
        </p:nvSpPr>
        <p:spPr>
          <a:xfrm>
            <a:off x="611280" y="195912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0&lt;k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3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3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23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24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24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25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25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25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26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6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6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7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8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8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8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9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63"/>
          <p:cNvSpPr/>
          <p:nvPr/>
        </p:nvSpPr>
        <p:spPr>
          <a:xfrm>
            <a:off x="2125800" y="152712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500040" y="2142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аллельный перенос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9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9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0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0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1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1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1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1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1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2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3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3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33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4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34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34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35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357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63"/>
          <p:cNvSpPr/>
          <p:nvPr/>
        </p:nvSpPr>
        <p:spPr>
          <a:xfrm>
            <a:off x="1547640" y="119700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-0.09452 E">
                                      <p:cBhvr>
                                        <p:cTn id="5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36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36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6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7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7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7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7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8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8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8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9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9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0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0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0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0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1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20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63"/>
          <p:cNvSpPr/>
          <p:nvPr/>
        </p:nvSpPr>
        <p:spPr>
          <a:xfrm>
            <a:off x="1763640" y="249228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0.14714 E">
                                      <p:cBhvr>
                                        <p:cTn id="64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2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2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2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3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43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44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44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44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44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45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45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45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6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7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7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7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8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833560" y="1455480"/>
            <a:ext cx="1162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87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88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89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96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01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04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05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07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08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15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20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21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26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32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34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35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542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546" name="Object 62"/>
          <p:cNvGraphicFramePr/>
          <p:nvPr/>
        </p:nvGraphicFramePr>
        <p:xfrm>
          <a:off x="4029120" y="1941480"/>
          <a:ext cx="141912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41480"/>
                    <a:ext cx="1419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3531E-006 L 0.09444 -1.3531E-006 E">
                                      <p:cBhvr>
                                        <p:cTn id="85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5:00:52Z</dcterms:created>
  <dc:creator>Artem</dc:creator>
  <dc:description/>
  <dc:language>en-US</dc:language>
  <cp:lastModifiedBy>1</cp:lastModifiedBy>
  <dcterms:modified xsi:type="dcterms:W3CDTF">2013-01-09T06:09:52Z</dcterms:modified>
  <cp:revision>22</cp:revision>
  <dc:subject/>
  <dc:title>Слайд 1</dc:title>
</cp:coreProperties>
</file>